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5022-5DF1-4572-A97F-BC2CCD4EA11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вантовая физ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Гаврилов-Ям МОУ СОШ №3. Медведев Максим. 5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BE0C-4EA1-4050-AC07-4432F29DA40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адрона, ква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оставлении таблицы элементарных частиц в основе всех семейств предположили существование семейства кварков – частиц с зарядом меньше, чем у электрона (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⅓, +⅔, +⅔). Нуклоны состоят из трёх кварков, мезоны – из кварка и антиквар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очему кварки существуют только в виде адронов и не существуют в свободном состоянии? Электронным зондирующим пучком установили, что кварки обмениваются глюонами. Сила взаимодействия с расстоянием увеличивается, так как глюон начинает порождать другие глю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ри попытке разорвать глюонные связи образуется новый мезо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1D9E-D380-4218-BFA8-F2D4EEA463D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ресур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С. Барашенков. «Вселенная в электрон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ольшая энциклопедия Кирилла и Мефод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ант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«Астроном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4DE5-7A1E-46B3-82D3-6DC1157314F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нать основные свойства элементарных част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изотопы водо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законы микро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с механизм ядерных реакций на Солнц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нать свойства мез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ить строение адр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A660-011F-451D-A264-E5D0FBD0B1A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войства элементарных части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 – отрицательно заряженная элементарная частица с массо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≈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0,511 МэВ, со спином 0,5 ћ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он – положительная частица с массо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≈ 938,3 МэВ(≈ 1 а.е), со спином 0,5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ћ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рон – античастица электрона. Заряд 1, масса как у электрона, спин -0,5 ћ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йтрон – нейтральная элементарная частица, масс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≈ 939,6 МэВ, сп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0,5. В свободном состоянии нейтрон нестабилен и имеет время жизни около 16 мин. Вместе с протонами нейтрон образуют атомные ядра; в ядрах нейтрон стабил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294B-E1CA-43EE-99CB-64FF83C81B6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род и его изото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водорода три изотопа – протий, дейтерий и три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D72D-8042-42D5-B8DE-D63918FA2F1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йтерий и трит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род с массовым числом 2 называют тяжелым водородом, дейтерием. Для его обозначения используют символы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, или D (читается «де»), ядро d — дейтрон. Радиоактивный изотоп с массовым числом 3 называют сверхтяжелым водородом, или тритием, символ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 или Т (читается «те»), ядро t — трит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радиоактивности три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BAFD-7BB2-4F31-91BA-2A3AEF25980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микро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вестно, нейтрон в свободном состоянии распадается на протон, электрон и антинейтрино. А почему рождается пара лептонов? Разве ту энергию, что несёт антинейтрино, не может унести электро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реакции должны проходить по законам сохранения. В эти законы входят: закон сохранения энергии, электрического, лептонного, барионного заряда, и т.д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BE77-9A3E-4653-8CB1-758F2E8115F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ерные реакции на Солнц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це, как и другие звёзды, светит благодаря термоядерным реак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D9A3-1B9C-4C01-B2EF-067565E0084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-мез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ядре протоны и нейтроны обмениваются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-мезонами, сильновзаимодействующими частицами в примерно 270 раз тяжелее электр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 заряженном состоянии распадается на мюон и антинейтри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B10A-6DA9-42F4-B769-AC90948FB7D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юон и тяжёлый лепт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юон очень похож на электрон, но в двести с лишним раз тяжелее. Кроме того, мюон радиоактивен, он распадается на электрон и антинейтри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1887-B62D-4FE3-B3D5-3A2716F6E5A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5F67-06A6-4DE1-9EC0-79EA6D20E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B0A1-AD2C-49CA-9166-662904E3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7922-D99A-4BE1-B15F-221F02FDD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37F6-351E-40AD-AC40-ACDCA9309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11D6-44AC-4196-B72E-8B293486B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AAC2-4527-4E69-9079-973AE259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FC58-70E9-4F9B-A063-8781CCA0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79E2-4F89-45CC-94C8-5A0746BB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DF59-6662-4E22-8ADB-C49FDBF4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02CF-0B69-4307-9601-4AD9983E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4193-C899-4EF4-9A14-7787EBC4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B044-C903-4B9F-A3F6-8108B25C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CF7A-9510-44C8-A8DC-EC9662B5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2E9B-DF7B-44D9-8EC5-430A405F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34F5-76FF-4C6A-AEF9-885FF34A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F217-0734-407F-81F2-0C589F1BE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6C4F-4F19-45F1-8A76-1532467A5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2611-7768-47E6-BE7D-E362EEA1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DC34-11D7-4439-9769-6B60316F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172C-4B6D-4B7D-89D9-99838946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9029-BBFB-4FED-997E-2853AC3C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58F0-56DD-434A-AC06-3D21A685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869B-6D6B-413C-814E-AD19DB97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75E9-4DB8-41A4-BBCF-D4AE2107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3351"/>
            </a:gs>
            <a:gs pos="100000">
              <a:srgbClr val="4f59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282e49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303657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14974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55e9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2b314d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73e62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963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5294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92e48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f689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2c3250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32395a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62b45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335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3e466f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4166"/>
                  </a:gs>
                  <a:gs pos="100000">
                    <a:srgbClr val="4f598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98d"/>
                  </a:gs>
                  <a:gs pos="100000">
                    <a:srgbClr val="5f68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AA32-96CA-4C0D-9491-95A258F099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3351"/>
            </a:gs>
            <a:gs pos="100000">
              <a:srgbClr val="4f59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282e49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303657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14974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55e9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2b314d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73e62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963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5294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92e48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f689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2c3250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32395a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62b45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335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3e466f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4166"/>
                  </a:gs>
                  <a:gs pos="100000">
                    <a:srgbClr val="4f598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98d"/>
                  </a:gs>
                  <a:gs pos="100000">
                    <a:srgbClr val="5f68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9699-AC74-46A3-B87A-9C5C7C4EE16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5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4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5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8.wmf"/><Relationship Id="rId17" Type="http://schemas.openxmlformats.org/officeDocument/2006/relationships/image" Target="../media/image9.wmf"/><Relationship Id="rId18" Type="http://schemas.openxmlformats.org/officeDocument/2006/relationships/image" Target="../media/image10.wmf"/><Relationship Id="rId19" Type="http://schemas.openxmlformats.org/officeDocument/2006/relationships/image" Target="../media/image11.wmf"/><Relationship Id="rId20" Type="http://schemas.openxmlformats.org/officeDocument/2006/relationships/image" Target="../media/image12.wmf"/><Relationship Id="rId21" Type="http://schemas.openxmlformats.org/officeDocument/2006/relationships/image" Target="../media/image13.wmf"/><Relationship Id="rId22" Type="http://schemas.openxmlformats.org/officeDocument/2006/relationships/image" Target="../media/image10.wmf"/><Relationship Id="rId23" Type="http://schemas.openxmlformats.org/officeDocument/2006/relationships/image" Target="../media/image14.wmf"/><Relationship Id="rId24" Type="http://schemas.openxmlformats.org/officeDocument/2006/relationships/image" Target="../media/image6.wmf"/><Relationship Id="rId25" Type="http://schemas.openxmlformats.org/officeDocument/2006/relationships/slideLayout" Target="../slideLayouts/slideLayout13.xml"/><Relationship Id="rId2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0.wmf"/><Relationship Id="rId5" Type="http://schemas.openxmlformats.org/officeDocument/2006/relationships/image" Target="../media/image14.wmf"/><Relationship Id="rId6" Type="http://schemas.openxmlformats.org/officeDocument/2006/relationships/image" Target="../media/image6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image" Target="../media/image6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5.wmf"/><Relationship Id="rId7" Type="http://schemas.openxmlformats.org/officeDocument/2006/relationships/image" Target="../media/image4.wmf"/><Relationship Id="rId8" Type="http://schemas.openxmlformats.org/officeDocument/2006/relationships/image" Target="../media/image6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14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5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14.wmf"/><Relationship Id="rId10" Type="http://schemas.openxmlformats.org/officeDocument/2006/relationships/image" Target="../media/image11.wmf"/><Relationship Id="rId11" Type="http://schemas.openxmlformats.org/officeDocument/2006/relationships/image" Target="../media/image7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8.wmf"/><Relationship Id="rId4" Type="http://schemas.openxmlformats.org/officeDocument/2006/relationships/image" Target="../media/image16.wmf"/><Relationship Id="rId5" Type="http://schemas.openxmlformats.org/officeDocument/2006/relationships/image" Target="../media/image12.wmf"/><Relationship Id="rId6" Type="http://schemas.openxmlformats.org/officeDocument/2006/relationships/image" Target="../media/image1.png"/><Relationship Id="rId7" Type="http://schemas.openxmlformats.org/officeDocument/2006/relationships/image" Target="../media/image10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png"/><Relationship Id="rId3" Type="http://schemas.openxmlformats.org/officeDocument/2006/relationships/image" Target="../media/image14.wmf"/><Relationship Id="rId4" Type="http://schemas.openxmlformats.org/officeDocument/2006/relationships/image" Target="../media/image6.wmf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вантовая физи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619280" y="6424560"/>
            <a:ext cx="752472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. Гаврилов-Ям МОУ СОШ №3. Медведев Максим. 5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8" descr="proton"/>
          <p:cNvPicPr/>
          <p:nvPr/>
        </p:nvPicPr>
        <p:blipFill>
          <a:blip r:embed="rId1"/>
          <a:stretch/>
        </p:blipFill>
        <p:spPr>
          <a:xfrm>
            <a:off x="826920" y="1484280"/>
            <a:ext cx="265320" cy="265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neitron"/>
          <p:cNvPicPr/>
          <p:nvPr/>
        </p:nvPicPr>
        <p:blipFill>
          <a:blip r:embed="rId2"/>
          <a:stretch/>
        </p:blipFill>
        <p:spPr>
          <a:xfrm>
            <a:off x="826920" y="1773360"/>
            <a:ext cx="265320" cy="264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elektron"/>
          <p:cNvPicPr/>
          <p:nvPr/>
        </p:nvPicPr>
        <p:blipFill>
          <a:blip r:embed="rId3"/>
          <a:stretch/>
        </p:blipFill>
        <p:spPr>
          <a:xfrm>
            <a:off x="900000" y="2205000"/>
            <a:ext cx="85680" cy="85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foton"/>
          <p:cNvPicPr/>
          <p:nvPr/>
        </p:nvPicPr>
        <p:blipFill>
          <a:blip r:embed="rId4"/>
          <a:stretch/>
        </p:blipFill>
        <p:spPr>
          <a:xfrm>
            <a:off x="847800" y="2924280"/>
            <a:ext cx="171360" cy="586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2"/>
          <p:cNvSpPr/>
          <p:nvPr/>
        </p:nvSpPr>
        <p:spPr>
          <a:xfrm>
            <a:off x="1258920" y="1341360"/>
            <a:ext cx="297324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т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йтр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лектр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зитр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отон(кван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ейтрино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ли антинейтри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π-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з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ю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Group 20"/>
          <p:cNvGrpSpPr/>
          <p:nvPr/>
        </p:nvGrpSpPr>
        <p:grpSpPr>
          <a:xfrm>
            <a:off x="5568840" y="2697120"/>
            <a:ext cx="469800" cy="480960"/>
            <a:chOff x="5568840" y="2697120"/>
            <a:chExt cx="469800" cy="480960"/>
          </a:xfrm>
        </p:grpSpPr>
        <p:pic>
          <p:nvPicPr>
            <p:cNvPr id="177" name="Picture 21" descr="neitron"/>
            <p:cNvPicPr/>
            <p:nvPr/>
          </p:nvPicPr>
          <p:blipFill>
            <a:blip r:embed="rId5"/>
            <a:stretch/>
          </p:blipFill>
          <p:spPr>
            <a:xfrm>
              <a:off x="5773680" y="2697120"/>
              <a:ext cx="264960" cy="2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22" descr="proton"/>
            <p:cNvPicPr/>
            <p:nvPr/>
          </p:nvPicPr>
          <p:blipFill>
            <a:blip r:embed="rId6"/>
            <a:stretch/>
          </p:blipFill>
          <p:spPr>
            <a:xfrm>
              <a:off x="5762520" y="2903400"/>
              <a:ext cx="264960" cy="26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23" descr="neitron"/>
            <p:cNvPicPr/>
            <p:nvPr/>
          </p:nvPicPr>
          <p:blipFill>
            <a:blip r:embed="rId7"/>
            <a:stretch/>
          </p:blipFill>
          <p:spPr>
            <a:xfrm>
              <a:off x="5568840" y="2913120"/>
              <a:ext cx="264960" cy="2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24" descr="proton"/>
            <p:cNvPicPr/>
            <p:nvPr/>
          </p:nvPicPr>
          <p:blipFill>
            <a:blip r:embed="rId8"/>
            <a:stretch/>
          </p:blipFill>
          <p:spPr>
            <a:xfrm>
              <a:off x="5570280" y="2701800"/>
              <a:ext cx="265320" cy="26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Oval 26"/>
          <p:cNvSpPr/>
          <p:nvPr/>
        </p:nvSpPr>
        <p:spPr>
          <a:xfrm>
            <a:off x="5292720" y="2421000"/>
            <a:ext cx="100800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5" descr="elektron"/>
          <p:cNvPicPr/>
          <p:nvPr/>
        </p:nvPicPr>
        <p:blipFill>
          <a:blip r:embed="rId9"/>
          <a:stretch/>
        </p:blipFill>
        <p:spPr>
          <a:xfrm>
            <a:off x="5281560" y="2708280"/>
            <a:ext cx="85680" cy="85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7" descr="elektron"/>
          <p:cNvPicPr/>
          <p:nvPr/>
        </p:nvPicPr>
        <p:blipFill>
          <a:blip r:embed="rId10"/>
          <a:stretch/>
        </p:blipFill>
        <p:spPr>
          <a:xfrm>
            <a:off x="6227640" y="3068640"/>
            <a:ext cx="85680" cy="85680"/>
          </a:xfrm>
          <a:prstGeom prst="rect">
            <a:avLst/>
          </a:prstGeom>
          <a:ln w="0">
            <a:noFill/>
          </a:ln>
        </p:spPr>
      </p:pic>
      <p:grpSp>
        <p:nvGrpSpPr>
          <p:cNvPr id="184" name="Group 33"/>
          <p:cNvGrpSpPr/>
          <p:nvPr/>
        </p:nvGrpSpPr>
        <p:grpSpPr>
          <a:xfrm>
            <a:off x="7656480" y="3603600"/>
            <a:ext cx="625320" cy="419040"/>
            <a:chOff x="7656480" y="3603600"/>
            <a:chExt cx="625320" cy="419040"/>
          </a:xfrm>
        </p:grpSpPr>
        <p:pic>
          <p:nvPicPr>
            <p:cNvPr id="185" name="Picture 31" descr="neitron"/>
            <p:cNvPicPr/>
            <p:nvPr/>
          </p:nvPicPr>
          <p:blipFill>
            <a:blip r:embed="rId11"/>
            <a:stretch/>
          </p:blipFill>
          <p:spPr>
            <a:xfrm>
              <a:off x="7656480" y="3612960"/>
              <a:ext cx="264960" cy="26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30" descr="proton"/>
            <p:cNvPicPr/>
            <p:nvPr/>
          </p:nvPicPr>
          <p:blipFill>
            <a:blip r:embed="rId12"/>
            <a:stretch/>
          </p:blipFill>
          <p:spPr>
            <a:xfrm>
              <a:off x="7850160" y="3603600"/>
              <a:ext cx="264960" cy="2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32" descr="proton"/>
            <p:cNvPicPr/>
            <p:nvPr/>
          </p:nvPicPr>
          <p:blipFill>
            <a:blip r:embed="rId13"/>
            <a:stretch/>
          </p:blipFill>
          <p:spPr>
            <a:xfrm>
              <a:off x="8016840" y="3757320"/>
              <a:ext cx="264960" cy="26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Oval 34"/>
          <p:cNvSpPr/>
          <p:nvPr/>
        </p:nvSpPr>
        <p:spPr>
          <a:xfrm>
            <a:off x="7451640" y="3284640"/>
            <a:ext cx="100800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35" descr="elektron"/>
          <p:cNvPicPr/>
          <p:nvPr/>
        </p:nvPicPr>
        <p:blipFill>
          <a:blip r:embed="rId14"/>
          <a:stretch/>
        </p:blipFill>
        <p:spPr>
          <a:xfrm>
            <a:off x="7440480" y="3571920"/>
            <a:ext cx="85680" cy="85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8" descr="elektron"/>
          <p:cNvPicPr/>
          <p:nvPr/>
        </p:nvPicPr>
        <p:blipFill>
          <a:blip r:embed="rId15"/>
          <a:stretch/>
        </p:blipFill>
        <p:spPr>
          <a:xfrm>
            <a:off x="8101080" y="4221000"/>
            <a:ext cx="85680" cy="86040"/>
          </a:xfrm>
          <a:prstGeom prst="rect">
            <a:avLst/>
          </a:prstGeom>
          <a:ln w="0">
            <a:noFill/>
          </a:ln>
        </p:spPr>
      </p:pic>
      <p:sp>
        <p:nvSpPr>
          <p:cNvPr id="191" name="Oval 151"/>
          <p:cNvSpPr/>
          <p:nvPr/>
        </p:nvSpPr>
        <p:spPr>
          <a:xfrm>
            <a:off x="992160" y="3213000"/>
            <a:ext cx="17640" cy="1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156" descr="Mezon-"/>
          <p:cNvPicPr/>
          <p:nvPr/>
        </p:nvPicPr>
        <p:blipFill>
          <a:blip r:embed="rId16"/>
          <a:stretch/>
        </p:blipFill>
        <p:spPr>
          <a:xfrm>
            <a:off x="396720" y="3438360"/>
            <a:ext cx="265320" cy="2653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8" descr="Mezon+"/>
          <p:cNvPicPr/>
          <p:nvPr/>
        </p:nvPicPr>
        <p:blipFill>
          <a:blip r:embed="rId17"/>
          <a:stretch/>
        </p:blipFill>
        <p:spPr>
          <a:xfrm>
            <a:off x="700200" y="3429000"/>
            <a:ext cx="264960" cy="264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9" descr="Mezon0"/>
          <p:cNvPicPr/>
          <p:nvPr/>
        </p:nvPicPr>
        <p:blipFill>
          <a:blip r:embed="rId18"/>
          <a:stretch/>
        </p:blipFill>
        <p:spPr>
          <a:xfrm>
            <a:off x="996840" y="3429000"/>
            <a:ext cx="265320" cy="2649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60"/>
          <p:cNvSpPr/>
          <p:nvPr/>
        </p:nvSpPr>
        <p:spPr>
          <a:xfrm>
            <a:off x="307800" y="364500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   +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61"/>
          <p:cNvSpPr/>
          <p:nvPr/>
        </p:nvSpPr>
        <p:spPr>
          <a:xfrm>
            <a:off x="0" y="342900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68"/>
          <p:cNvSpPr/>
          <p:nvPr/>
        </p:nvSpPr>
        <p:spPr>
          <a:xfrm>
            <a:off x="611280" y="41497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   +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69"/>
          <p:cNvSpPr/>
          <p:nvPr/>
        </p:nvSpPr>
        <p:spPr>
          <a:xfrm>
            <a:off x="0" y="407664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171" descr="pozitron"/>
          <p:cNvPicPr/>
          <p:nvPr/>
        </p:nvPicPr>
        <p:blipFill>
          <a:blip r:embed="rId19"/>
          <a:stretch/>
        </p:blipFill>
        <p:spPr>
          <a:xfrm>
            <a:off x="900000" y="2565360"/>
            <a:ext cx="85680" cy="85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3" descr="Muon-"/>
          <p:cNvPicPr/>
          <p:nvPr/>
        </p:nvPicPr>
        <p:blipFill>
          <a:blip r:embed="rId20"/>
          <a:stretch/>
        </p:blipFill>
        <p:spPr>
          <a:xfrm>
            <a:off x="684360" y="4076640"/>
            <a:ext cx="215640" cy="216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74" descr="Muon+"/>
          <p:cNvPicPr/>
          <p:nvPr/>
        </p:nvPicPr>
        <p:blipFill>
          <a:blip r:embed="rId21"/>
          <a:stretch/>
        </p:blipFill>
        <p:spPr>
          <a:xfrm>
            <a:off x="1042920" y="4076640"/>
            <a:ext cx="204840" cy="204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75" descr="Mezon0"/>
          <p:cNvPicPr/>
          <p:nvPr/>
        </p:nvPicPr>
        <p:blipFill>
          <a:blip r:embed="rId22"/>
          <a:stretch/>
        </p:blipFill>
        <p:spPr>
          <a:xfrm>
            <a:off x="8101080" y="1989000"/>
            <a:ext cx="264960" cy="26532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177"/>
          <p:cNvGrpSpPr/>
          <p:nvPr/>
        </p:nvGrpSpPr>
        <p:grpSpPr>
          <a:xfrm>
            <a:off x="5435640" y="2133720"/>
            <a:ext cx="178920" cy="91800"/>
            <a:chOff x="5435640" y="2133720"/>
            <a:chExt cx="178920" cy="91800"/>
          </a:xfrm>
        </p:grpSpPr>
        <p:pic>
          <p:nvPicPr>
            <p:cNvPr id="204" name="Picture 178" descr="elektron_sl2"/>
            <p:cNvPicPr/>
            <p:nvPr/>
          </p:nvPicPr>
          <p:blipFill>
            <a:blip r:embed="rId23"/>
            <a:stretch/>
          </p:blipFill>
          <p:spPr>
            <a:xfrm>
              <a:off x="5435640" y="2133720"/>
              <a:ext cx="126720" cy="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179" descr="elektron"/>
            <p:cNvPicPr/>
            <p:nvPr/>
          </p:nvPicPr>
          <p:blipFill>
            <a:blip r:embed="rId24"/>
            <a:stretch/>
          </p:blipFill>
          <p:spPr>
            <a:xfrm>
              <a:off x="5528880" y="2133720"/>
              <a:ext cx="85680" cy="8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троение адрона, квар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4452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составлении таблицы элементарных частиц в основе всех семейств предположили существование семейства кварков – частиц с зарядом меньше, чем у электрона (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⅓, +⅔, +⅔). Нуклоны состоят из трёх кварков, мезоны – из кварка и антиквар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чему кварки существуют только в виде адронов и не существуют в свободном состоянии? Электронным зондирующим пучком установили, что кварки обмениваются глюонами. Сила взаимодействия с расстоянием увеличивается, так как глюон начинает порождать другие глюо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и попытке разорвать глюонные связи образуется новый мезон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11" descr="Mezon0"/>
          <p:cNvPicPr/>
          <p:nvPr/>
        </p:nvPicPr>
        <p:blipFill>
          <a:blip r:embed="rId4"/>
          <a:stretch/>
        </p:blipFill>
        <p:spPr>
          <a:xfrm>
            <a:off x="3635280" y="6308640"/>
            <a:ext cx="265320" cy="265320"/>
          </a:xfrm>
          <a:prstGeom prst="rect">
            <a:avLst/>
          </a:prstGeom>
          <a:ln w="0">
            <a:noFill/>
          </a:ln>
        </p:spPr>
      </p:pic>
      <p:grpSp>
        <p:nvGrpSpPr>
          <p:cNvPr id="359" name="Group 16"/>
          <p:cNvGrpSpPr/>
          <p:nvPr/>
        </p:nvGrpSpPr>
        <p:grpSpPr>
          <a:xfrm>
            <a:off x="7812000" y="6441840"/>
            <a:ext cx="169560" cy="97200"/>
            <a:chOff x="7812000" y="6441840"/>
            <a:chExt cx="169560" cy="97200"/>
          </a:xfrm>
        </p:grpSpPr>
        <p:pic>
          <p:nvPicPr>
            <p:cNvPr id="360" name="Picture 14" descr="elektron_sl2"/>
            <p:cNvPicPr/>
            <p:nvPr/>
          </p:nvPicPr>
          <p:blipFill>
            <a:blip r:embed="rId5"/>
            <a:stretch/>
          </p:blipFill>
          <p:spPr>
            <a:xfrm rot="10800000">
              <a:off x="7854480" y="6441840"/>
              <a:ext cx="127080" cy="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15" descr="elektron"/>
            <p:cNvPicPr/>
            <p:nvPr/>
          </p:nvPicPr>
          <p:blipFill>
            <a:blip r:embed="rId6"/>
            <a:stretch/>
          </p:blipFill>
          <p:spPr>
            <a:xfrm>
              <a:off x="7812000" y="6453360"/>
              <a:ext cx="85680" cy="8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2" name="Picture 17" descr="Mezon0"/>
          <p:cNvPicPr/>
          <p:nvPr/>
        </p:nvPicPr>
        <p:blipFill>
          <a:blip r:embed="rId7"/>
          <a:stretch/>
        </p:blipFill>
        <p:spPr>
          <a:xfrm>
            <a:off x="3635280" y="6308640"/>
            <a:ext cx="265320" cy="26532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8"/>
          <p:cNvSpPr/>
          <p:nvPr/>
        </p:nvSpPr>
        <p:spPr>
          <a:xfrm>
            <a:off x="8459640" y="6308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19"/>
          <p:cNvSpPr/>
          <p:nvPr/>
        </p:nvSpPr>
        <p:spPr>
          <a:xfrm flipH="1">
            <a:off x="7954920" y="652464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21"/>
          <p:cNvSpPr/>
          <p:nvPr/>
        </p:nvSpPr>
        <p:spPr>
          <a:xfrm>
            <a:off x="4356000" y="6308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π 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22"/>
          <p:cNvSpPr/>
          <p:nvPr/>
        </p:nvSpPr>
        <p:spPr>
          <a:xfrm flipH="1">
            <a:off x="3851280" y="652464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1979640" y="6165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π 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Line 25"/>
          <p:cNvSpPr/>
          <p:nvPr/>
        </p:nvSpPr>
        <p:spPr>
          <a:xfrm flipV="1">
            <a:off x="2340000" y="6237000"/>
            <a:ext cx="50328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Line 26"/>
          <p:cNvSpPr/>
          <p:nvPr/>
        </p:nvSpPr>
        <p:spPr>
          <a:xfrm>
            <a:off x="2340000" y="638172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0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2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7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2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9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70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97872E-007 L -0.45017 -0.00532 E">
                                      <p:cBhvr>
                                        <p:cTn id="709" dur="7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7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5017 -0.00532 L -0.67066 0.07865 E">
                                      <p:cBhvr>
                                        <p:cTn id="712" dur="13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5.66736E-007 L -0.09445 -0.04187 E">
                                      <p:cBhvr>
                                        <p:cTn id="716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7.77238E-007 L -0.11024 0.02105 E">
                                      <p:cBhvr>
                                        <p:cTn id="718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нформационные ресурс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21844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 С. Барашенков. «Вселенная в электроне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Большая энциклопедия Кирилла и Мефоди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анта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«Астрономи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знать основные свойства элементарных части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еть изотопы водоро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еть законы микроми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еть с механизм ядерных реакций на Солнц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знать свойства мез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ить строение адр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WordArt 5"/>
          <p:cNvSpPr txBox="1"/>
          <p:nvPr/>
        </p:nvSpPr>
        <p:spPr>
          <a:xfrm>
            <a:off x="1835280" y="189000"/>
            <a:ext cx="5616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Наши це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войства элементарных частиц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388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Электрон – отрицательно заряженная элементарная частица с массой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≈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0,511 МэВ, со спином 0,5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ћ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88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Протон – положительная частица с массой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≈ 938,3 МэВ(≈ 1 а.е), со спином 0,5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ћ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88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Позитрон – античастица электрона. Заряд 1, масса как у электрона, спин -0,5 ћ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88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Нейтрон – нейтральная элементарная частица, масса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≈ 939,6 МэВ, спин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0,5. В свободном состоянии нейтрон нестабилен и имеет время жизни около 16 мин. Вместе с протонами нейтрон образуют атомные ядра; в ядрах нейтрон стабилен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proton"/>
          <p:cNvPicPr/>
          <p:nvPr/>
        </p:nvPicPr>
        <p:blipFill>
          <a:blip r:embed="rId1"/>
          <a:stretch/>
        </p:blipFill>
        <p:spPr>
          <a:xfrm>
            <a:off x="1476360" y="2708280"/>
            <a:ext cx="264960" cy="2649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дород и его изотоп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водорода три изотопа – протий, дейтерий и трит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8" descr="elektron"/>
          <p:cNvPicPr/>
          <p:nvPr/>
        </p:nvPicPr>
        <p:blipFill>
          <a:blip r:embed="rId3"/>
          <a:stretch/>
        </p:blipFill>
        <p:spPr>
          <a:xfrm>
            <a:off x="1065240" y="2852640"/>
            <a:ext cx="85680" cy="85680"/>
          </a:xfrm>
          <a:prstGeom prst="rect">
            <a:avLst/>
          </a:prstGeom>
          <a:ln w="0">
            <a:noFill/>
          </a:ln>
        </p:spPr>
      </p:pic>
      <p:sp>
        <p:nvSpPr>
          <p:cNvPr id="217" name="Oval 9"/>
          <p:cNvSpPr/>
          <p:nvPr/>
        </p:nvSpPr>
        <p:spPr>
          <a:xfrm>
            <a:off x="1116000" y="2347920"/>
            <a:ext cx="100800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13" descr="proton"/>
          <p:cNvPicPr/>
          <p:nvPr/>
        </p:nvPicPr>
        <p:blipFill>
          <a:blip r:embed="rId4"/>
          <a:stretch/>
        </p:blipFill>
        <p:spPr>
          <a:xfrm>
            <a:off x="3348000" y="2781360"/>
            <a:ext cx="265320" cy="264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4" descr="elektron"/>
          <p:cNvPicPr/>
          <p:nvPr/>
        </p:nvPicPr>
        <p:blipFill>
          <a:blip r:embed="rId5"/>
          <a:stretch/>
        </p:blipFill>
        <p:spPr>
          <a:xfrm>
            <a:off x="3008160" y="2925720"/>
            <a:ext cx="86040" cy="85680"/>
          </a:xfrm>
          <a:prstGeom prst="rect">
            <a:avLst/>
          </a:prstGeom>
          <a:ln w="0">
            <a:noFill/>
          </a:ln>
        </p:spPr>
      </p:pic>
      <p:sp>
        <p:nvSpPr>
          <p:cNvPr id="220" name="Oval 15"/>
          <p:cNvSpPr/>
          <p:nvPr/>
        </p:nvSpPr>
        <p:spPr>
          <a:xfrm>
            <a:off x="3059280" y="2421000"/>
            <a:ext cx="100800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16" descr="neitron"/>
          <p:cNvPicPr/>
          <p:nvPr/>
        </p:nvPicPr>
        <p:blipFill>
          <a:blip r:embed="rId6"/>
          <a:stretch/>
        </p:blipFill>
        <p:spPr>
          <a:xfrm>
            <a:off x="3564000" y="2781360"/>
            <a:ext cx="264960" cy="26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1" descr="proton"/>
          <p:cNvPicPr/>
          <p:nvPr/>
        </p:nvPicPr>
        <p:blipFill>
          <a:blip r:embed="rId7"/>
          <a:stretch/>
        </p:blipFill>
        <p:spPr>
          <a:xfrm>
            <a:off x="5291280" y="2779560"/>
            <a:ext cx="264960" cy="265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2" descr="elektron"/>
          <p:cNvPicPr/>
          <p:nvPr/>
        </p:nvPicPr>
        <p:blipFill>
          <a:blip r:embed="rId8"/>
          <a:stretch/>
        </p:blipFill>
        <p:spPr>
          <a:xfrm>
            <a:off x="4951440" y="2944800"/>
            <a:ext cx="85680" cy="85680"/>
          </a:xfrm>
          <a:prstGeom prst="rect">
            <a:avLst/>
          </a:prstGeom>
          <a:ln w="0">
            <a:noFill/>
          </a:ln>
        </p:spPr>
      </p:pic>
      <p:sp>
        <p:nvSpPr>
          <p:cNvPr id="224" name="Oval 23"/>
          <p:cNvSpPr/>
          <p:nvPr/>
        </p:nvSpPr>
        <p:spPr>
          <a:xfrm>
            <a:off x="5002200" y="2440080"/>
            <a:ext cx="100800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24" descr="neitron"/>
          <p:cNvPicPr/>
          <p:nvPr/>
        </p:nvPicPr>
        <p:blipFill>
          <a:blip r:embed="rId9"/>
          <a:stretch/>
        </p:blipFill>
        <p:spPr>
          <a:xfrm>
            <a:off x="5506920" y="2779560"/>
            <a:ext cx="265320" cy="265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5" descr="neitron"/>
          <p:cNvPicPr/>
          <p:nvPr/>
        </p:nvPicPr>
        <p:blipFill>
          <a:blip r:embed="rId10"/>
          <a:stretch/>
        </p:blipFill>
        <p:spPr>
          <a:xfrm>
            <a:off x="5364000" y="2924280"/>
            <a:ext cx="265320" cy="2649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26"/>
          <p:cNvSpPr/>
          <p:nvPr/>
        </p:nvSpPr>
        <p:spPr>
          <a:xfrm>
            <a:off x="1333800" y="350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30"/>
          <p:cNvSpPr/>
          <p:nvPr/>
        </p:nvSpPr>
        <p:spPr>
          <a:xfrm>
            <a:off x="3278520" y="350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31"/>
          <p:cNvSpPr/>
          <p:nvPr/>
        </p:nvSpPr>
        <p:spPr>
          <a:xfrm>
            <a:off x="5294160" y="3500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33"/>
          <p:cNvSpPr/>
          <p:nvPr/>
        </p:nvSpPr>
        <p:spPr>
          <a:xfrm flipV="1">
            <a:off x="1547640" y="2997360"/>
            <a:ext cx="7164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34"/>
          <p:cNvSpPr/>
          <p:nvPr/>
        </p:nvSpPr>
        <p:spPr>
          <a:xfrm flipV="1">
            <a:off x="3492360" y="2997360"/>
            <a:ext cx="7164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35"/>
          <p:cNvSpPr/>
          <p:nvPr/>
        </p:nvSpPr>
        <p:spPr>
          <a:xfrm flipV="1">
            <a:off x="5508720" y="3068640"/>
            <a:ext cx="7128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36"/>
          <p:cNvSpPr/>
          <p:nvPr/>
        </p:nvSpPr>
        <p:spPr>
          <a:xfrm>
            <a:off x="539640" y="4005360"/>
            <a:ext cx="81583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ород с массовым числом 1 называют легким водородом, или протием, обозначают символом Н, а его ядро называют протоном, символ 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0.00533 C 0.00677 0.04584 0.03524 0.07269 0.06493 0.06597 C 0.09531 0.05926 0.11493 0.02107 0.1099 -0.01921 C 0.10504 -0.05879 0.07691 -0.08541 0.0467 -0.0787 C 0.01649 -0.07176 -0.00347 -0.03449 0.00156 0.00533 Z">
                                      <p:cBhvr>
                                        <p:cTn id="83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0.00509 C 0.00677 0.04607 0.03524 0.07245 0.06493 0.06574 C 0.09531 0.05903 0.11458 0.02083 0.1099 -0.01944 C 0.10504 -0.05903 0.07691 -0.08565 0.0467 -0.07893 C 0.01649 -0.07199 -0.00347 -0.03472 0.00156 0.00509 Z">
                                      <p:cBhvr>
                                        <p:cTn id="103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0.00463 C 0.00729 0.0456 0.03576 0.07199 0.06545 0.06528 C 0.09583 0.05856 0.11493 0.02037 0.11042 -0.01991 C 0.10556 -0.05949 0.07743 -0.08611 0.04722 -0.0794 C 0.01701 -0.07246 -0.00295 -0.03519 0.00208 0.00463 Z">
                                      <p:cBhvr>
                                        <p:cTn id="125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1" descr="proton"/>
          <p:cNvPicPr/>
          <p:nvPr/>
        </p:nvPicPr>
        <p:blipFill>
          <a:blip r:embed="rId1"/>
          <a:stretch/>
        </p:blipFill>
        <p:spPr>
          <a:xfrm>
            <a:off x="1619280" y="5805360"/>
            <a:ext cx="264960" cy="2653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ейтерий и трити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3026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ород с массовым числом 2 называют тяжелым водородом, дейтерием. Для его обозначения используют символы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, или D (читается «де»), ядро d — дейтрон. Радиоактивный изотоп с массовым числом 3 называют сверхтяжелым водородом, или тритием, символ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 или Т (читается «те»), ядро t — трито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хема радиоактивности трит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4" descr="proton"/>
          <p:cNvPicPr/>
          <p:nvPr/>
        </p:nvPicPr>
        <p:blipFill>
          <a:blip r:embed="rId4"/>
          <a:stretch/>
        </p:blipFill>
        <p:spPr>
          <a:xfrm>
            <a:off x="1401840" y="5770440"/>
            <a:ext cx="264960" cy="265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neitron"/>
          <p:cNvPicPr/>
          <p:nvPr/>
        </p:nvPicPr>
        <p:blipFill>
          <a:blip r:embed="rId5"/>
          <a:stretch/>
        </p:blipFill>
        <p:spPr>
          <a:xfrm>
            <a:off x="1619280" y="5805360"/>
            <a:ext cx="264960" cy="265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neitron"/>
          <p:cNvPicPr/>
          <p:nvPr/>
        </p:nvPicPr>
        <p:blipFill>
          <a:blip r:embed="rId6"/>
          <a:stretch/>
        </p:blipFill>
        <p:spPr>
          <a:xfrm>
            <a:off x="1476360" y="5950080"/>
            <a:ext cx="264960" cy="2649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9"/>
          <p:cNvSpPr/>
          <p:nvPr/>
        </p:nvSpPr>
        <p:spPr>
          <a:xfrm>
            <a:off x="1404720" y="6491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10"/>
          <p:cNvSpPr/>
          <p:nvPr/>
        </p:nvSpPr>
        <p:spPr>
          <a:xfrm flipV="1">
            <a:off x="1619280" y="6059520"/>
            <a:ext cx="7128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29"/>
          <p:cNvGrpSpPr/>
          <p:nvPr/>
        </p:nvGrpSpPr>
        <p:grpSpPr>
          <a:xfrm>
            <a:off x="1763640" y="5877000"/>
            <a:ext cx="179640" cy="92160"/>
            <a:chOff x="1763640" y="5877000"/>
            <a:chExt cx="179640" cy="92160"/>
          </a:xfrm>
        </p:grpSpPr>
        <p:pic>
          <p:nvPicPr>
            <p:cNvPr id="244" name="Picture 28" descr="elektron_sl2"/>
            <p:cNvPicPr/>
            <p:nvPr/>
          </p:nvPicPr>
          <p:blipFill>
            <a:blip r:embed="rId7"/>
            <a:stretch/>
          </p:blipFill>
          <p:spPr>
            <a:xfrm>
              <a:off x="1763640" y="5877000"/>
              <a:ext cx="127080" cy="9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3" descr="elektron"/>
            <p:cNvPicPr/>
            <p:nvPr/>
          </p:nvPicPr>
          <p:blipFill>
            <a:blip r:embed="rId8"/>
            <a:stretch/>
          </p:blipFill>
          <p:spPr>
            <a:xfrm>
              <a:off x="1857240" y="5877000"/>
              <a:ext cx="86040" cy="8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Oval 14"/>
          <p:cNvSpPr/>
          <p:nvPr/>
        </p:nvSpPr>
        <p:spPr>
          <a:xfrm>
            <a:off x="1908000" y="5950080"/>
            <a:ext cx="17640" cy="17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15"/>
          <p:cNvSpPr/>
          <p:nvPr/>
        </p:nvSpPr>
        <p:spPr>
          <a:xfrm>
            <a:off x="1619280" y="6165720"/>
            <a:ext cx="792000" cy="358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268360" y="64911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17"/>
          <p:cNvSpPr/>
          <p:nvPr/>
        </p:nvSpPr>
        <p:spPr>
          <a:xfrm flipV="1">
            <a:off x="5219640" y="5589360"/>
            <a:ext cx="1440000" cy="215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6588000" y="544500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19"/>
          <p:cNvSpPr/>
          <p:nvPr/>
        </p:nvSpPr>
        <p:spPr>
          <a:xfrm flipH="1">
            <a:off x="5724000" y="5950080"/>
            <a:ext cx="1584360" cy="503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5508720" y="623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21"/>
          <p:cNvSpPr/>
          <p:nvPr/>
        </p:nvSpPr>
        <p:spPr>
          <a:xfrm>
            <a:off x="1908000" y="5950080"/>
            <a:ext cx="792360" cy="358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2627280" y="6165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27"/>
          <p:cNvSpPr/>
          <p:nvPr/>
        </p:nvSpPr>
        <p:spPr>
          <a:xfrm>
            <a:off x="5591160" y="635148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8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250" autoRev="1" fill="hold"/>
                                        <p:tgtEl>
                                          <p:spTgt spid="2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11022E-016 L 0.60538 -0.00116 E">
                                      <p:cBhvr>
                                        <p:cTn id="189" dur="5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5.18519E-006 L 0.36215 -0.02107 E">
                                      <p:cBhvr>
                                        <p:cTn id="193" dur="7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коны микроми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88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Как известно, нейтрон в свободном состоянии распадается на протон, электрон и антинейтрино. А почему рождается пара лептонов? Разве ту энергию, что несёт антинейтрино, не может унести электрон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88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Все реакции должны проходить по законам сохранения. В эти законы входят: закон сохранения энергии, электрического, лептонного, барионного заряда, и т.д…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Group 52"/>
          <p:cNvGrpSpPr/>
          <p:nvPr/>
        </p:nvGrpSpPr>
        <p:grpSpPr>
          <a:xfrm>
            <a:off x="2259000" y="5157720"/>
            <a:ext cx="5265720" cy="1611360"/>
            <a:chOff x="2259000" y="5157720"/>
            <a:chExt cx="5265720" cy="1611360"/>
          </a:xfrm>
        </p:grpSpPr>
        <p:sp>
          <p:nvSpPr>
            <p:cNvPr id="260" name="Text Box 48"/>
            <p:cNvSpPr/>
            <p:nvPr/>
          </p:nvSpPr>
          <p:spPr>
            <a:xfrm>
              <a:off x="4572000" y="5805360"/>
              <a:ext cx="29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электрический заря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1" name="Picture 4" descr="neitron"/>
            <p:cNvPicPr/>
            <p:nvPr/>
          </p:nvPicPr>
          <p:blipFill>
            <a:blip r:embed="rId3"/>
            <a:stretch/>
          </p:blipFill>
          <p:spPr>
            <a:xfrm>
              <a:off x="2341440" y="5300640"/>
              <a:ext cx="265320" cy="2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Line 5"/>
            <p:cNvSpPr/>
            <p:nvPr/>
          </p:nvSpPr>
          <p:spPr>
            <a:xfrm>
              <a:off x="2700360" y="5445000"/>
              <a:ext cx="21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3" name="Picture 6" descr="proton"/>
            <p:cNvPicPr/>
            <p:nvPr/>
          </p:nvPicPr>
          <p:blipFill>
            <a:blip r:embed="rId4"/>
            <a:stretch/>
          </p:blipFill>
          <p:spPr>
            <a:xfrm>
              <a:off x="2989440" y="5300640"/>
              <a:ext cx="264960" cy="2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Text Box 7"/>
            <p:cNvSpPr/>
            <p:nvPr/>
          </p:nvSpPr>
          <p:spPr>
            <a:xfrm>
              <a:off x="3277800" y="522936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5" name="Picture 8" descr="elektron"/>
            <p:cNvPicPr/>
            <p:nvPr/>
          </p:nvPicPr>
          <p:blipFill>
            <a:blip r:embed="rId5"/>
            <a:stretch/>
          </p:blipFill>
          <p:spPr>
            <a:xfrm>
              <a:off x="3565440" y="5373720"/>
              <a:ext cx="8568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9"/>
            <p:cNvSpPr/>
            <p:nvPr/>
          </p:nvSpPr>
          <p:spPr>
            <a:xfrm>
              <a:off x="3638160" y="522936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Oval 10"/>
            <p:cNvSpPr/>
            <p:nvPr/>
          </p:nvSpPr>
          <p:spPr>
            <a:xfrm>
              <a:off x="3925800" y="5394240"/>
              <a:ext cx="17640" cy="1764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 Box 11"/>
            <p:cNvSpPr/>
            <p:nvPr/>
          </p:nvSpPr>
          <p:spPr>
            <a:xfrm>
              <a:off x="2268360" y="558972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→   p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+ e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-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Text Box 13"/>
            <p:cNvSpPr/>
            <p:nvPr/>
          </p:nvSpPr>
          <p:spPr>
            <a:xfrm>
              <a:off x="3852720" y="558972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14"/>
            <p:cNvSpPr/>
            <p:nvPr/>
          </p:nvSpPr>
          <p:spPr>
            <a:xfrm>
              <a:off x="3935520" y="5703840"/>
              <a:ext cx="14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15"/>
            <p:cNvSpPr/>
            <p:nvPr/>
          </p:nvSpPr>
          <p:spPr>
            <a:xfrm>
              <a:off x="2259000" y="586440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0    =   1  +(-1)+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 Box 16"/>
            <p:cNvSpPr/>
            <p:nvPr/>
          </p:nvSpPr>
          <p:spPr>
            <a:xfrm>
              <a:off x="2259000" y="615312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=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+1/2+(-1/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Text Box 32"/>
            <p:cNvSpPr/>
            <p:nvPr/>
          </p:nvSpPr>
          <p:spPr>
            <a:xfrm>
              <a:off x="4573440" y="5157720"/>
              <a:ext cx="10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реак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Text Box 46"/>
            <p:cNvSpPr/>
            <p:nvPr/>
          </p:nvSpPr>
          <p:spPr>
            <a:xfrm>
              <a:off x="4573440" y="5516640"/>
              <a:ext cx="8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запис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Text Box 47"/>
            <p:cNvSpPr/>
            <p:nvPr/>
          </p:nvSpPr>
          <p:spPr>
            <a:xfrm>
              <a:off x="2268360" y="6400800"/>
              <a:ext cx="21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=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+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0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Text Box 49"/>
            <p:cNvSpPr/>
            <p:nvPr/>
          </p:nvSpPr>
          <p:spPr>
            <a:xfrm>
              <a:off x="4572000" y="609300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лептонный заря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Text Box 50"/>
            <p:cNvSpPr/>
            <p:nvPr/>
          </p:nvSpPr>
          <p:spPr>
            <a:xfrm>
              <a:off x="4572000" y="638172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барионный заря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Ядерные реакции на Солнц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лнце, как и другие звёзды, светит благодаря термоядерным реакци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4" descr="proton"/>
          <p:cNvPicPr/>
          <p:nvPr/>
        </p:nvPicPr>
        <p:blipFill>
          <a:blip r:embed="rId2"/>
          <a:stretch/>
        </p:blipFill>
        <p:spPr>
          <a:xfrm>
            <a:off x="539640" y="2421000"/>
            <a:ext cx="265320" cy="2649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proton"/>
          <p:cNvPicPr/>
          <p:nvPr/>
        </p:nvPicPr>
        <p:blipFill>
          <a:blip r:embed="rId3"/>
          <a:stretch/>
        </p:blipFill>
        <p:spPr>
          <a:xfrm>
            <a:off x="7596360" y="2421000"/>
            <a:ext cx="264960" cy="26496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7"/>
          <p:cNvSpPr/>
          <p:nvPr/>
        </p:nvSpPr>
        <p:spPr>
          <a:xfrm>
            <a:off x="1189440" y="249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8"/>
          <p:cNvSpPr/>
          <p:nvPr/>
        </p:nvSpPr>
        <p:spPr>
          <a:xfrm flipH="1">
            <a:off x="755640" y="263700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8461800" y="2421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10"/>
          <p:cNvSpPr/>
          <p:nvPr/>
        </p:nvSpPr>
        <p:spPr>
          <a:xfrm flipH="1" flipV="1">
            <a:off x="7885080" y="2565000"/>
            <a:ext cx="57456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11" descr="neitron"/>
          <p:cNvPicPr/>
          <p:nvPr/>
        </p:nvPicPr>
        <p:blipFill>
          <a:blip r:embed="rId4"/>
          <a:stretch/>
        </p:blipFill>
        <p:spPr>
          <a:xfrm>
            <a:off x="4284720" y="2492280"/>
            <a:ext cx="264960" cy="2653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12"/>
          <p:cNvSpPr/>
          <p:nvPr/>
        </p:nvSpPr>
        <p:spPr>
          <a:xfrm>
            <a:off x="5510520" y="2852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13"/>
          <p:cNvSpPr/>
          <p:nvPr/>
        </p:nvSpPr>
        <p:spPr>
          <a:xfrm flipH="1">
            <a:off x="5076720" y="299736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14" descr="proton"/>
          <p:cNvPicPr/>
          <p:nvPr/>
        </p:nvPicPr>
        <p:blipFill>
          <a:blip r:embed="rId5"/>
          <a:stretch/>
        </p:blipFill>
        <p:spPr>
          <a:xfrm>
            <a:off x="539640" y="7029360"/>
            <a:ext cx="265320" cy="26532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15"/>
          <p:cNvSpPr/>
          <p:nvPr/>
        </p:nvSpPr>
        <p:spPr>
          <a:xfrm>
            <a:off x="3858840" y="28526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16"/>
          <p:cNvSpPr/>
          <p:nvPr/>
        </p:nvSpPr>
        <p:spPr>
          <a:xfrm>
            <a:off x="4356000" y="3068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Group 20"/>
          <p:cNvGrpSpPr/>
          <p:nvPr/>
        </p:nvGrpSpPr>
        <p:grpSpPr>
          <a:xfrm>
            <a:off x="826920" y="7029360"/>
            <a:ext cx="480960" cy="480960"/>
            <a:chOff x="826920" y="7029360"/>
            <a:chExt cx="480960" cy="480960"/>
          </a:xfrm>
        </p:grpSpPr>
        <p:pic>
          <p:nvPicPr>
            <p:cNvPr id="294" name="Picture 18" descr="neitron"/>
            <p:cNvPicPr/>
            <p:nvPr/>
          </p:nvPicPr>
          <p:blipFill>
            <a:blip r:embed="rId6"/>
            <a:stretch/>
          </p:blipFill>
          <p:spPr>
            <a:xfrm>
              <a:off x="826920" y="7173720"/>
              <a:ext cx="265320" cy="2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19" descr="proton"/>
            <p:cNvPicPr/>
            <p:nvPr/>
          </p:nvPicPr>
          <p:blipFill>
            <a:blip r:embed="rId7"/>
            <a:stretch/>
          </p:blipFill>
          <p:spPr>
            <a:xfrm>
              <a:off x="1042920" y="7245000"/>
              <a:ext cx="264960" cy="26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17" descr="proton"/>
            <p:cNvPicPr/>
            <p:nvPr/>
          </p:nvPicPr>
          <p:blipFill>
            <a:blip r:embed="rId8"/>
            <a:stretch/>
          </p:blipFill>
          <p:spPr>
            <a:xfrm>
              <a:off x="971280" y="7029360"/>
              <a:ext cx="265320" cy="26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Text Box 21"/>
          <p:cNvSpPr/>
          <p:nvPr/>
        </p:nvSpPr>
        <p:spPr>
          <a:xfrm>
            <a:off x="829080" y="350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22"/>
          <p:cNvSpPr/>
          <p:nvPr/>
        </p:nvSpPr>
        <p:spPr>
          <a:xfrm>
            <a:off x="7742520" y="342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24"/>
          <p:cNvSpPr/>
          <p:nvPr/>
        </p:nvSpPr>
        <p:spPr>
          <a:xfrm>
            <a:off x="4650840" y="32846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25"/>
          <p:cNvSpPr/>
          <p:nvPr/>
        </p:nvSpPr>
        <p:spPr>
          <a:xfrm>
            <a:off x="250920" y="371628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Протоны с высокой энергией сближаются. Один из них может распасться на протон, позитрон и нейтрино. Тогда образуется ядро дейтер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Oval 29"/>
          <p:cNvSpPr/>
          <p:nvPr/>
        </p:nvSpPr>
        <p:spPr>
          <a:xfrm>
            <a:off x="4427640" y="2781360"/>
            <a:ext cx="17280" cy="17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33"/>
          <p:cNvGrpSpPr/>
          <p:nvPr/>
        </p:nvGrpSpPr>
        <p:grpSpPr>
          <a:xfrm>
            <a:off x="4356000" y="2421000"/>
            <a:ext cx="182520" cy="92160"/>
            <a:chOff x="4356000" y="2421000"/>
            <a:chExt cx="182520" cy="92160"/>
          </a:xfrm>
        </p:grpSpPr>
        <p:pic>
          <p:nvPicPr>
            <p:cNvPr id="303" name="Picture 27" descr="elektron_sl2"/>
            <p:cNvPicPr/>
            <p:nvPr/>
          </p:nvPicPr>
          <p:blipFill>
            <a:blip r:embed="rId9"/>
            <a:stretch/>
          </p:blipFill>
          <p:spPr>
            <a:xfrm>
              <a:off x="4356000" y="2421000"/>
              <a:ext cx="127080" cy="9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32" descr="pozitron"/>
            <p:cNvPicPr/>
            <p:nvPr/>
          </p:nvPicPr>
          <p:blipFill>
            <a:blip r:embed="rId10"/>
            <a:stretch/>
          </p:blipFill>
          <p:spPr>
            <a:xfrm>
              <a:off x="4452840" y="2421000"/>
              <a:ext cx="85680" cy="8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5" name="Text Box 34"/>
          <p:cNvSpPr/>
          <p:nvPr/>
        </p:nvSpPr>
        <p:spPr>
          <a:xfrm>
            <a:off x="8251560" y="18446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35"/>
          <p:cNvSpPr/>
          <p:nvPr/>
        </p:nvSpPr>
        <p:spPr>
          <a:xfrm flipH="1">
            <a:off x="7524720" y="2060640"/>
            <a:ext cx="71928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37"/>
          <p:cNvSpPr/>
          <p:nvPr/>
        </p:nvSpPr>
        <p:spPr>
          <a:xfrm>
            <a:off x="8534160" y="321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38"/>
          <p:cNvSpPr/>
          <p:nvPr/>
        </p:nvSpPr>
        <p:spPr>
          <a:xfrm flipH="1" flipV="1">
            <a:off x="8388360" y="3068640"/>
            <a:ext cx="2872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42"/>
          <p:cNvSpPr/>
          <p:nvPr/>
        </p:nvSpPr>
        <p:spPr>
          <a:xfrm>
            <a:off x="250920" y="436572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Ядро дейтерия присоединяет к себе протон, испускает мощный гамма-квант и становится ядром лёгкого гел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44" descr="foton"/>
          <p:cNvPicPr/>
          <p:nvPr/>
        </p:nvPicPr>
        <p:blipFill>
          <a:blip r:embed="rId11"/>
          <a:stretch/>
        </p:blipFill>
        <p:spPr>
          <a:xfrm>
            <a:off x="5003640" y="3068640"/>
            <a:ext cx="171720" cy="5868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5"/>
          <p:cNvSpPr/>
          <p:nvPr/>
        </p:nvSpPr>
        <p:spPr>
          <a:xfrm>
            <a:off x="8847000" y="357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46"/>
          <p:cNvSpPr/>
          <p:nvPr/>
        </p:nvSpPr>
        <p:spPr>
          <a:xfrm flipH="1" flipV="1">
            <a:off x="8388360" y="3644640"/>
            <a:ext cx="50472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47"/>
          <p:cNvSpPr/>
          <p:nvPr/>
        </p:nvSpPr>
        <p:spPr>
          <a:xfrm>
            <a:off x="324000" y="508464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Когда такие ядра сближаются, они могут объединиться в ядро обычного гелия, «отпустив на свободу» два прото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48"/>
          <p:cNvSpPr/>
          <p:nvPr/>
        </p:nvSpPr>
        <p:spPr>
          <a:xfrm>
            <a:off x="324000" y="573408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так, в итоге последовательных превращений образуется ядро обычного гелия. Так как масса ядра гелия меньше суммы масс четырёх ядер водорода, то остаток массы переходит в энерг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11111E-006 -1.85185E-006 L -0.33872 0.01042 E">
                                      <p:cBhvr>
                                        <p:cTn id="296" dur="7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5E-006 -2.22222E-006 L 0.41076 0.01227 E">
                                      <p:cBhvr>
                                        <p:cTn id="298" dur="7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30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250" autoRev="1" fill="hold"/>
                                        <p:tgtEl>
                                          <p:spTgt spid="2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11111E-006 L 0.42674 0.03333 E">
                                      <p:cBhvr>
                                        <p:cTn id="313" dur="5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40741E-007 L 0.32725 -0.00857 E">
                                      <p:cBhvr>
                                        <p:cTn id="315" dur="7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1.85185E-006 L 0.0394 0.05255 E">
                                      <p:cBhvr>
                                        <p:cTn id="317" dur="1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872 0.01042 L -0.29931 0.06297 E">
                                      <p:cBhvr>
                                        <p:cTn id="319" dur="1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3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5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6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0.01065 L 0.45937 -0.58611 E">
                                      <p:cBhvr>
                                        <p:cTn id="374" dur="1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2 -0.01644 L 0.35798 0.07384 E">
                                      <p:cBhvr>
                                        <p:cTn id="379" dur="3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3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3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0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1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6 L 0.37552 -0.6125 E">
                                      <p:cBhvr>
                                        <p:cTn id="419" dur="1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896 -0.60902 L 0.7967 -0.55463 E">
                                      <p:cBhvr>
                                        <p:cTn id="422" dur="7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274 0.06297 L -0.73889 0.12778 E">
                                      <p:cBhvr>
                                        <p:cTn id="424" dur="7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5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5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ccecff"/>
                </a:solidFill>
                <a:latin typeface="Arial"/>
                <a:ea typeface="Arial"/>
              </a:rPr>
              <a:t>π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  <a:ea typeface="Arial"/>
              </a:rPr>
              <a:t>-мезо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88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В ядре протоны и нейтроны обмениваются </a:t>
            </a:r>
            <a:r>
              <a:rPr b="0" lang="el-GR" sz="31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-мезонами, сильновзаимодействующими частицами в примерно 270 раз тяжелее электрона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88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В заряженном состоянии распадается на мюон и антинейтрино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Picture 4" descr="Mezon-"/>
          <p:cNvPicPr/>
          <p:nvPr/>
        </p:nvPicPr>
        <p:blipFill>
          <a:blip r:embed="rId3"/>
          <a:stretch/>
        </p:blipFill>
        <p:spPr>
          <a:xfrm>
            <a:off x="428760" y="3548160"/>
            <a:ext cx="264960" cy="26496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5"/>
          <p:cNvSpPr/>
          <p:nvPr/>
        </p:nvSpPr>
        <p:spPr>
          <a:xfrm>
            <a:off x="111600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π 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7"/>
          <p:cNvSpPr/>
          <p:nvPr/>
        </p:nvSpPr>
        <p:spPr>
          <a:xfrm flipH="1">
            <a:off x="611280" y="371628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Oval 9"/>
          <p:cNvSpPr/>
          <p:nvPr/>
        </p:nvSpPr>
        <p:spPr>
          <a:xfrm>
            <a:off x="684360" y="3789360"/>
            <a:ext cx="17280" cy="1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Group 14"/>
          <p:cNvGrpSpPr/>
          <p:nvPr/>
        </p:nvGrpSpPr>
        <p:grpSpPr>
          <a:xfrm>
            <a:off x="395280" y="3573360"/>
            <a:ext cx="283680" cy="216000"/>
            <a:chOff x="395280" y="3573360"/>
            <a:chExt cx="283680" cy="216000"/>
          </a:xfrm>
        </p:grpSpPr>
        <p:pic>
          <p:nvPicPr>
            <p:cNvPr id="323" name="Picture 13" descr="elektron_sl"/>
            <p:cNvPicPr/>
            <p:nvPr/>
          </p:nvPicPr>
          <p:blipFill>
            <a:blip r:embed="rId4"/>
            <a:stretch/>
          </p:blipFill>
          <p:spPr>
            <a:xfrm>
              <a:off x="395280" y="3573360"/>
              <a:ext cx="1490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12" descr="Muon-"/>
            <p:cNvPicPr/>
            <p:nvPr/>
          </p:nvPicPr>
          <p:blipFill>
            <a:blip r:embed="rId5"/>
            <a:stretch/>
          </p:blipFill>
          <p:spPr>
            <a:xfrm>
              <a:off x="474480" y="3573360"/>
              <a:ext cx="204480" cy="20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Line 15"/>
          <p:cNvSpPr/>
          <p:nvPr/>
        </p:nvSpPr>
        <p:spPr>
          <a:xfrm flipV="1">
            <a:off x="7380360" y="3500280"/>
            <a:ext cx="720720" cy="6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6372360" y="314172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юонное антинейтри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17"/>
          <p:cNvSpPr/>
          <p:nvPr/>
        </p:nvSpPr>
        <p:spPr>
          <a:xfrm flipH="1">
            <a:off x="5076720" y="3645000"/>
            <a:ext cx="935280" cy="144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4788000" y="3716280"/>
            <a:ext cx="6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20"/>
          <p:cNvSpPr/>
          <p:nvPr/>
        </p:nvSpPr>
        <p:spPr>
          <a:xfrm>
            <a:off x="611280" y="422100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88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В нейтральном состоянии он почти мгновенно распадается на два </a:t>
            </a:r>
            <a:r>
              <a:rPr b="0" lang="el-GR" sz="3100" spc="-1" strike="noStrike">
                <a:solidFill>
                  <a:srgbClr val="ffffff"/>
                </a:solidFill>
                <a:latin typeface="Arial"/>
                <a:ea typeface="Arial"/>
              </a:rPr>
              <a:t>γ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-фотона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21" descr="Mezon0"/>
          <p:cNvPicPr/>
          <p:nvPr/>
        </p:nvPicPr>
        <p:blipFill>
          <a:blip r:embed="rId7"/>
          <a:stretch/>
        </p:blipFill>
        <p:spPr>
          <a:xfrm>
            <a:off x="4211640" y="5229360"/>
            <a:ext cx="264960" cy="2649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22"/>
          <p:cNvSpPr/>
          <p:nvPr/>
        </p:nvSpPr>
        <p:spPr>
          <a:xfrm>
            <a:off x="4859280" y="51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π 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Line 23"/>
          <p:cNvSpPr/>
          <p:nvPr/>
        </p:nvSpPr>
        <p:spPr>
          <a:xfrm flipH="1">
            <a:off x="4354560" y="537372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Picture 24" descr="foton"/>
          <p:cNvPicPr/>
          <p:nvPr/>
        </p:nvPicPr>
        <p:blipFill>
          <a:blip r:embed="rId8"/>
          <a:stretch/>
        </p:blipFill>
        <p:spPr>
          <a:xfrm>
            <a:off x="4282920" y="5229360"/>
            <a:ext cx="171720" cy="586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5" descr="foton"/>
          <p:cNvPicPr/>
          <p:nvPr/>
        </p:nvPicPr>
        <p:blipFill>
          <a:blip r:embed="rId9"/>
          <a:stretch/>
        </p:blipFill>
        <p:spPr>
          <a:xfrm rot="10800000">
            <a:off x="4284720" y="5373360"/>
            <a:ext cx="171360" cy="5868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26"/>
          <p:cNvSpPr/>
          <p:nvPr/>
        </p:nvSpPr>
        <p:spPr>
          <a:xfrm>
            <a:off x="1403280" y="522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Line 27"/>
          <p:cNvSpPr/>
          <p:nvPr/>
        </p:nvSpPr>
        <p:spPr>
          <a:xfrm flipH="1">
            <a:off x="898560" y="544500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28"/>
          <p:cNvSpPr/>
          <p:nvPr/>
        </p:nvSpPr>
        <p:spPr>
          <a:xfrm>
            <a:off x="7524720" y="5084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Line 29"/>
          <p:cNvSpPr/>
          <p:nvPr/>
        </p:nvSpPr>
        <p:spPr>
          <a:xfrm flipV="1">
            <a:off x="7812000" y="5229360"/>
            <a:ext cx="86364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3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8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9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3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3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8.33333E-007 -2.27388E-006 L 0.58299 -0.00509 E">
                                      <p:cBhvr>
                                        <p:cTn id="509" dur="1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0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4.44444E-006 5.45917E-007 L 0.72362 0.06176 E">
                                      <p:cBhvr>
                                        <p:cTn id="511" dur="5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2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5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5" dur="3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2.22222E-006 -4.62873E-006 L 0.47899 -0.00416 E">
                                      <p:cBhvr>
                                        <p:cTn id="562" dur="3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3" nodeType="withEffect" fill="hold" presetClass="path" presetID="35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1.38889E-006 -4.26324E-006 L -0.40312 0.00625 E">
                                      <p:cBhvr>
                                        <p:cTn id="564" dur="3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6" descr="Muon-"/>
          <p:cNvPicPr/>
          <p:nvPr/>
        </p:nvPicPr>
        <p:blipFill>
          <a:blip r:embed="rId1"/>
          <a:stretch/>
        </p:blipFill>
        <p:spPr>
          <a:xfrm>
            <a:off x="4284720" y="335592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юон и тяжёлый лепто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юон очень похож на электрон, но в двести с лишним раз тяжелее. Кроме того, мюон радиоактивен, он распадается на электрон и антинейтрин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Oval 8"/>
          <p:cNvSpPr/>
          <p:nvPr/>
        </p:nvSpPr>
        <p:spPr>
          <a:xfrm>
            <a:off x="4356000" y="3500280"/>
            <a:ext cx="17640" cy="1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 flipH="1" flipV="1">
            <a:off x="3708000" y="3357720"/>
            <a:ext cx="576360" cy="71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10"/>
          <p:cNvSpPr/>
          <p:nvPr/>
        </p:nvSpPr>
        <p:spPr>
          <a:xfrm>
            <a:off x="3419640" y="31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6" name="Group 11"/>
          <p:cNvGrpSpPr/>
          <p:nvPr/>
        </p:nvGrpSpPr>
        <p:grpSpPr>
          <a:xfrm>
            <a:off x="4284720" y="3357720"/>
            <a:ext cx="178920" cy="91800"/>
            <a:chOff x="4284720" y="3357720"/>
            <a:chExt cx="178920" cy="91800"/>
          </a:xfrm>
        </p:grpSpPr>
        <p:pic>
          <p:nvPicPr>
            <p:cNvPr id="347" name="Picture 12" descr="elektron_sl2"/>
            <p:cNvPicPr/>
            <p:nvPr/>
          </p:nvPicPr>
          <p:blipFill>
            <a:blip r:embed="rId3"/>
            <a:stretch/>
          </p:blipFill>
          <p:spPr>
            <a:xfrm>
              <a:off x="4284720" y="3357720"/>
              <a:ext cx="126720" cy="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13" descr="elektron"/>
            <p:cNvPicPr/>
            <p:nvPr/>
          </p:nvPicPr>
          <p:blipFill>
            <a:blip r:embed="rId4"/>
            <a:stretch/>
          </p:blipFill>
          <p:spPr>
            <a:xfrm>
              <a:off x="4377960" y="3357720"/>
              <a:ext cx="85680" cy="8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Line 14"/>
          <p:cNvSpPr/>
          <p:nvPr/>
        </p:nvSpPr>
        <p:spPr>
          <a:xfrm>
            <a:off x="539640" y="3573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15"/>
          <p:cNvSpPr/>
          <p:nvPr/>
        </p:nvSpPr>
        <p:spPr>
          <a:xfrm>
            <a:off x="395280" y="386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Line 16"/>
          <p:cNvSpPr/>
          <p:nvPr/>
        </p:nvSpPr>
        <p:spPr>
          <a:xfrm>
            <a:off x="468360" y="393372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17"/>
          <p:cNvSpPr/>
          <p:nvPr/>
        </p:nvSpPr>
        <p:spPr>
          <a:xfrm flipH="1">
            <a:off x="8388360" y="3573360"/>
            <a:ext cx="71280" cy="287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18"/>
          <p:cNvSpPr/>
          <p:nvPr/>
        </p:nvSpPr>
        <p:spPr>
          <a:xfrm>
            <a:off x="8244000" y="38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19"/>
          <p:cNvSpPr/>
          <p:nvPr/>
        </p:nvSpPr>
        <p:spPr>
          <a:xfrm>
            <a:off x="611280" y="3860640"/>
            <a:ext cx="8229600" cy="28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 же ведёт себя и тяжёлый лепто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Лепто» - с греческого «лёгкий». Но после открытия мюона и тяжёлого лептона, название «лептон» и «адрон» стали чисто условными, фактически синонимами «слабо»- и «сильновзаимодействующий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3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0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3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1.38889E-006 3.7037E-006 L 0.45486 0.0037 E">
                                      <p:cBhvr>
                                        <p:cTn id="620" dur="7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1" nodeType="withEffect" fill="hold" presetClass="path" presetID="35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3.05556E-006 -4.07407E-006 L -0.41823 -0.00115 E">
                                      <p:cBhvr>
                                        <p:cTn id="622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7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5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0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0:31:24Z</dcterms:created>
  <dc:creator>Максим</dc:creator>
  <dc:description/>
  <dc:language>en-US</dc:language>
  <cp:lastModifiedBy>LEGION</cp:lastModifiedBy>
  <dcterms:modified xsi:type="dcterms:W3CDTF">2015-03-30T08:27:12Z</dcterms:modified>
  <cp:revision>167</cp:revision>
  <dc:subject>Квантовая физика, радиоактивность и термоядерные реакции</dc:subject>
  <dc:title>Квантовая физ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e07000000000001023620</vt:lpwstr>
  </property>
  <property fmtid="{D5CDD505-2E9C-101B-9397-08002B2CF9AE}" pid="3" name="Version">
    <vt:r8>9</vt:r8>
  </property>
</Properties>
</file>